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chimes.wav" ContentType="audio/x-wav"/>
  <Override PartName="/ppt/media/image29.png" ContentType="image/png"/>
  <Override PartName="/ppt/media/image20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30.png" ContentType="image/png"/>
  <Override PartName="/ppt/media/image7.jpeg" ContentType="image/jpeg"/>
  <Override PartName="/ppt/media/image28.png" ContentType="image/png"/>
  <Override PartName="/ppt/media/image13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9D84-2230-4606-81AE-CDF93DBED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41AF-02E4-4FEF-90E0-DB13B57A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1989-8245-483C-BF3C-A4C7CAF86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203D-D3FC-4C11-A567-A81430B31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B617-D762-4F98-8425-F3EC9EB4D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48BB-4B84-4785-B71E-6ED4FE86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2AFD6-8258-42C2-86E0-44CD2A4D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820B-C3EE-4436-808C-7DAFF2C4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BA1E-7288-42D4-9190-D74179CB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3E21-118A-49D1-A200-05913C84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F2F1-F9B6-4C53-9496-8A8E0BF7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80B9-533A-4800-9D81-E35E08A9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A774-400D-440B-B9FC-1B119D31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F581-9934-4232-97AB-84EE0715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7F11-C2F8-491A-A28D-FEBE4B29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7CF6-E8EC-452B-97BA-7F3E93B56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E99D-90BF-4D1E-B522-644BBFA40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1033-D0FD-4D3E-8093-E19632EB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81B1-4F66-401E-932A-C2B71BA6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ED95-FC9B-4934-B9CF-0F513EAE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1303-3FF1-4A1C-A729-113BDFDA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4E6F-73D1-4FC5-A830-4CA780F5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4A85-9A3D-4A28-BF41-8E9BD164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D675-018F-4EEB-8DF0-BDBC9ABB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B23B-F6BF-4B03-8803-1D12D0E3E6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93B6-9D4C-4EF2-B941-1651927365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lnu.edu.cn/sh/pic/txt/shrwa21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nu.edu.cn/sh/pic/txt/shrwa27.html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lnu.edu.cn/sh/pic/txt/shrwa29.html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lnu.edu.cn/sh/pic/txt/shrwa31.html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lnu.edu.cn/sh/pic/txt/shrwb70.html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" Target="slide8.xml"/><Relationship Id="rId3" Type="http://schemas.openxmlformats.org/officeDocument/2006/relationships/image" Target="../media/image31.png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lnu.edu.cn/sh/pic/txt/shrwa17.html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lnu.edu.cn/sh/pic/txt/shrwa3.html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lnu.edu.cn/sh/pic/txt/shrwa4.html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" descr=""/>
          <p:cNvPicPr/>
          <p:nvPr/>
        </p:nvPicPr>
        <p:blipFill>
          <a:blip r:embed="rId2"/>
          <a:stretch/>
        </p:blipFill>
        <p:spPr>
          <a:xfrm>
            <a:off x="1219320" y="838080"/>
            <a:ext cx="3313080" cy="5181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</p:pic>
      <p:sp>
        <p:nvSpPr>
          <p:cNvPr id="504" name=""/>
          <p:cNvSpPr/>
          <p:nvPr/>
        </p:nvSpPr>
        <p:spPr>
          <a:xfrm>
            <a:off x="5704200" y="380880"/>
            <a:ext cx="310644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e70101"/>
                </a:solidFill>
                <a:latin typeface="Arial"/>
                <a:ea typeface="隶书"/>
              </a:rPr>
              <a:t>智取生辰纲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895280" y="3352680"/>
            <a:ext cx="18262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"/>
                <a:ea typeface="华文行楷"/>
              </a:rPr>
              <a:t>施耐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3"/>
          <a:stretch/>
        </p:blipFill>
        <p:spPr>
          <a:xfrm>
            <a:off x="622764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06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346104" fill="hold"/>
                                        <p:tgtEl>
                                          <p:spTgt spid="5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457200" y="5029200"/>
            <a:ext cx="2743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66cc"/>
                </a:solidFill>
                <a:uFillTx/>
                <a:latin typeface="Times New Roman"/>
                <a:ea typeface="华文行楷"/>
                <a:hlinkClick r:id="rId1"/>
              </a:rPr>
              <a:t>赤发鬼刘唐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2789280" cy="430848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3886200" y="380880"/>
            <a:ext cx="4952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刘唐，梁山英雄第二十一名，排步军头领第三位，使一把朴刀。梁中书因丈人蔡京过寿，要送价值十万贯的生辰纲到东京，消息被江湖好汉赤发鬼刘唐得知，便找到托塔天王晁盖劫生辰纲，终于干出了一番惊天动地的大事。不料白胜被捕，供出了晁盖。宋江走漏消息给晁盖，晁盖、吴用、公孙胜、刘唐和阮氏三兄弟打败追捕的官兵，上了梁山。后来宋江征讨方腊时在攻打杭州的战斗中阵亡。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609480" y="4952880"/>
            <a:ext cx="26672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66cc"/>
                </a:solidFill>
                <a:uFillTx/>
                <a:latin typeface="Times New Roman"/>
                <a:ea typeface="华文行楷"/>
                <a:hlinkClick r:id="rId1"/>
              </a:rPr>
              <a:t>立地太岁阮小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2789280" cy="430848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3657600" y="304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阮小二，在梁山好汉中排名第二十七位，是梁山四寨水军头领第四位。阮小二、阮小五、阮小七三兄弟，是梁山泊旁边石碣村人，个个武艺出众，敢赴汤蹈火。赤发鬼刘唐浪迹江湖，探听到生辰纲消息，晁盖、吴用和阮氏三兄弟一起，在黄泥冈用蒙汗药麻倒杨志，抢了生辰纲。济州府派何涛到郓城县捉拿晁盖等，幸亏有宋江事先通知，众好汉避到石碣村，官军追到时，被阮小二兄弟在芦苇港全部消灭干净。高俅等几次攻打梁山泊，阮小二兄弟率水军大出风头，建立奇功伟业。宋江攻打方腊时，阮小二率水兵袭击南军水寨，遭南军火排袭击，阮小二正要跳水逃跑，被挂钩搭住，他不愿受辱，自刎而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228600" y="609480"/>
            <a:ext cx="38098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66cc"/>
                </a:solidFill>
                <a:uFillTx/>
                <a:latin typeface="Times New Roman"/>
                <a:ea typeface="华文行楷"/>
                <a:hlinkClick r:id="rId1"/>
              </a:rPr>
              <a:t>短命二郎阮小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685800" y="1600200"/>
            <a:ext cx="2789280" cy="430848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4191120" y="533520"/>
            <a:ext cx="4495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阮小五，梁山好汉中第二十九位，排梁山八大水军头领第五位。阮小五在阮氏三兄弟中排行第二，亦是梁山有名的水中好汉，浪里英雄。他从小生长在石碣村，打鱼谋生，在黄泥冈劫了生辰纲，因官军追捕逃回梁山泊，与兄弟一起打败何涛。高俅率大军围断梁山，阮小五水中奋勇杀敌。他与童威一起驻守梁山东北水寨。后随宋江征讨方腊时战死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152280" y="304920"/>
            <a:ext cx="33530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66cc"/>
                </a:solidFill>
                <a:uFillTx/>
                <a:latin typeface="Times New Roman"/>
                <a:ea typeface="华文行楷"/>
                <a:hlinkClick r:id="rId1"/>
              </a:rPr>
              <a:t>活阎罗阮小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2789280" cy="430848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3429000" y="0"/>
            <a:ext cx="5715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阮小七，绰号“活阎罗”，是梁山英雄中第三十一条好汉，梁山水军八员头领第六位。阮小七在阮氏三雄中年纪最小，跟随两个哥哥行走江湖，干下了许多惊天动地的大事。黄泥冈和晁盖等用药酒麻倒青面兽杨志，劫了生辰纲。浔阳江上救宋江，打败官军。梁山泊里驾舟踏浪，先打败何涛，再打败高俅，水中的功夫，令梁山好汉们刮目相看。他与童猛一起驻守梁山泊西北水寨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受招安后，阮小七被封为盖天军都统制，因穿着龙袍戏耍被剥夺官职，贬成平民。阮小七就和老母亲回梁山泊石碣村打鱼去了。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2959200" cy="457200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3962520" y="2286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白胜，黄泥冈东十里路安乐村的一个壮汉。晁盖等智取生辰纲时，先是在白胜家住下。白胜把掺入蒙汗药的药酒卖给押运生辰纲的官兵，将这十五个官兵蒙麻，然后把十一担生辰纲全部抢走。案发后白胜被何涛、何清兄弟抓捕，熬不过苦刑供出了晁盖。后来白胜被梁山人马救出，做了军中走报机密的步军头领第四名，在梁山英雄中排行第一百零六位。征讨方腊时，白胜在路途中病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5257800"/>
            <a:ext cx="36576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66cc"/>
                </a:solidFill>
                <a:uFillTx/>
                <a:latin typeface="Times New Roman"/>
                <a:ea typeface="华文行楷"/>
                <a:hlinkClick r:id="rId2"/>
              </a:rPr>
              <a:t>白日鼠白胜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6495480" y="762120"/>
            <a:ext cx="1826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武松打虎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358128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612000" y="1219320"/>
            <a:ext cx="18262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呼保义宋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7086600" cy="685800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414720" y="2133720"/>
            <a:ext cx="1642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黑旋风李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6338880" cy="685800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6588360" y="1143000"/>
            <a:ext cx="1642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花和尚鲁智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53080" cy="685800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6631920" y="1066680"/>
            <a:ext cx="18262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豹子头林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-285840" y="0"/>
            <a:ext cx="1521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入云龙公孙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0" y="571500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一丈青扈三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-423360" y="533520"/>
            <a:ext cx="16426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白日鼠白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-68580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6479640" y="1219320"/>
            <a:ext cx="1826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鼓上蚤时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1892160" y="990720"/>
            <a:ext cx="10033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智多星吴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313080" y="549000"/>
            <a:ext cx="586728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杨志：原为殿司制使，因失陷花石纲丢官；沦落东京，因盘缠使尽卖祖传宝刀，无奈杀泼皮牛二，流配东京大名府充军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第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12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回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) 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92360" cy="389412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395280" y="4076640"/>
            <a:ext cx="8497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大名府留守梁世杰恩赦杨志，安排比武，杨志斗武出色，被梁中书提拔做管军提辖使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(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第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13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回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) 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；受梁中书重托，押运生辰纲，在黄泥冈失陷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(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第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16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回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) 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；走投无路，落草二龙山宝珠寺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(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第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17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回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) 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2019600" y="333360"/>
            <a:ext cx="5453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面对“生辰纲”这笔巨大的财宝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负责押送的杨志，一路费尽心思，力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生辰纲”不失；而智多星吴用巧设妙计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众好汉志在必得。这场英雄与英雄之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的斗智斗谋，最终结果如何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395280" y="3944880"/>
            <a:ext cx="842472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250920" y="981000"/>
            <a:ext cx="84740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</a:rPr>
              <a:t>趱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行（           ）            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</a:rPr>
              <a:t>嗔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怪（          ）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</a:rPr>
              <a:t>恁地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（         ）               怨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</a:rPr>
              <a:t>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</a:rPr>
              <a:t>怄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气（            ）           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</a:rPr>
              <a:t>朴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刀（          ）  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</a:rPr>
              <a:t>省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得（            ）           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</a:rPr>
              <a:t>逞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辩（          ）  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</a:rPr>
              <a:t>聒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噪（         ）              罗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</a:rPr>
              <a:t>唣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（          ）        面面厮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</a:rPr>
              <a:t>觑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（          ）    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</a:rPr>
              <a:t>还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言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</a:rPr>
              <a:t>忒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认真（          ）   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</a:rPr>
              <a:t>剜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口割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</a:rPr>
              <a:t>芥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菜（           ）            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</a:rPr>
              <a:t>甚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么（     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787480" y="189000"/>
            <a:ext cx="386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Times New Roman"/>
              </a:rPr>
              <a:t>齐读并抄写生词和注音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952280" y="981000"/>
            <a:ext cx="115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ǎ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853680" y="907920"/>
            <a:ext cx="145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ē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940040" y="1628640"/>
            <a:ext cx="120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è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595200" y="1628640"/>
            <a:ext cx="181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ɡ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163960" y="2205000"/>
            <a:ext cx="91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ò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917760" y="2205000"/>
            <a:ext cx="91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999800" y="2781360"/>
            <a:ext cx="137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ǐ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672960" y="2852640"/>
            <a:ext cx="181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ě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869480" y="3284640"/>
            <a:ext cx="132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ɡu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919920" y="3429000"/>
            <a:ext cx="112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033000" y="3933720"/>
            <a:ext cx="9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92640" y="4076640"/>
            <a:ext cx="152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hu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á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660400" y="4581360"/>
            <a:ext cx="77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49720" y="4653000"/>
            <a:ext cx="137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ā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084040" y="5300640"/>
            <a:ext cx="92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ji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764040" y="5229360"/>
            <a:ext cx="142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sh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é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533520" y="0"/>
            <a:ext cx="693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40000"/>
                </a:solidFill>
                <a:latin typeface="Times New Roman"/>
                <a:ea typeface="华文新魏"/>
              </a:rPr>
              <a:t>知识点发散与信息传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0880" y="914400"/>
            <a:ext cx="838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酷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(kù)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热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酷暑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冷酷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很酷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皓（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hào)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齿红唇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绛皓驳色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诰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(gào)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命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诏诰天下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姓郜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(Gào) /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金属锆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(gào) /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桎梏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(gù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57200" y="28195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仿宋简体"/>
                <a:ea typeface="方正仿宋简体"/>
              </a:rPr>
              <a:t>趱</a:t>
            </a:r>
            <a:r>
              <a:rPr b="1" lang="zh-CN" sz="3600" spc="-1" strike="noStrike">
                <a:solidFill>
                  <a:srgbClr val="ff0000"/>
                </a:solidFill>
                <a:latin typeface="方正仿宋简体"/>
                <a:ea typeface="方正仿宋简体"/>
              </a:rPr>
              <a:t>(zǎn)</a:t>
            </a:r>
            <a:r>
              <a:rPr b="1" lang="zh-CN" sz="3600" spc="-1" strike="noStrike">
                <a:solidFill>
                  <a:srgbClr val="ff0000"/>
                </a:solidFill>
                <a:latin typeface="方正仿宋简体"/>
                <a:ea typeface="方正仿宋简体"/>
              </a:rPr>
              <a:t>行</a:t>
            </a:r>
            <a:r>
              <a:rPr b="1" lang="zh-CN" sz="3600" spc="-1" strike="noStrike">
                <a:solidFill>
                  <a:srgbClr val="ff0000"/>
                </a:solidFill>
                <a:latin typeface="方正仿宋简体"/>
                <a:ea typeface="方正仿宋简体"/>
              </a:rPr>
              <a:t>/</a:t>
            </a:r>
            <a:r>
              <a:rPr b="1" lang="zh-CN" sz="3600" spc="-1" strike="noStrike">
                <a:solidFill>
                  <a:srgbClr val="ff0000"/>
                </a:solidFill>
                <a:latin typeface="方正仿宋简体"/>
                <a:ea typeface="方正仿宋简体"/>
              </a:rPr>
              <a:t>紧趱了一程</a:t>
            </a:r>
            <a:r>
              <a:rPr b="1" lang="zh-CN" sz="3600" spc="-1" strike="noStrike">
                <a:solidFill>
                  <a:srgbClr val="ff0000"/>
                </a:solidFill>
                <a:latin typeface="方正仿宋简体"/>
                <a:ea typeface="方正仿宋简体"/>
              </a:rPr>
              <a:t>/</a:t>
            </a:r>
            <a:r>
              <a:rPr b="1" lang="zh-CN" sz="3600" spc="-1" strike="noStrike">
                <a:solidFill>
                  <a:srgbClr val="ff0000"/>
                </a:solidFill>
                <a:latin typeface="方正仿宋简体"/>
                <a:ea typeface="方正仿宋简体"/>
              </a:rPr>
              <a:t>趱马向前</a:t>
            </a:r>
            <a:r>
              <a:rPr b="1" lang="zh-CN" sz="3600" spc="-1" strike="noStrike">
                <a:solidFill>
                  <a:srgbClr val="ff0000"/>
                </a:solidFill>
                <a:latin typeface="方正仿宋简体"/>
                <a:ea typeface="方正仿宋简体"/>
              </a:rPr>
              <a:t>/</a:t>
            </a:r>
            <a:r>
              <a:rPr b="1" lang="zh-CN" sz="3600" spc="-1" strike="noStrike">
                <a:solidFill>
                  <a:srgbClr val="ff0000"/>
                </a:solidFill>
                <a:latin typeface="方正仿宋简体"/>
                <a:ea typeface="方正仿宋简体"/>
              </a:rPr>
              <a:t>积攒</a:t>
            </a:r>
            <a:r>
              <a:rPr b="1" lang="zh-CN" sz="3600" spc="-1" strike="noStrike">
                <a:solidFill>
                  <a:srgbClr val="ff0000"/>
                </a:solidFill>
                <a:latin typeface="方正仿宋简体"/>
                <a:ea typeface="方正仿宋简体"/>
              </a:rPr>
              <a:t>/</a:t>
            </a:r>
            <a:r>
              <a:rPr b="1" lang="zh-CN" sz="3600" spc="-1" strike="noStrike">
                <a:solidFill>
                  <a:srgbClr val="ff0000"/>
                </a:solidFill>
                <a:latin typeface="方正仿宋简体"/>
                <a:ea typeface="方正仿宋简体"/>
              </a:rPr>
              <a:t>攒了一笔财富</a:t>
            </a:r>
            <a:r>
              <a:rPr b="1" lang="zh-CN" sz="3600" spc="-1" strike="noStrike">
                <a:solidFill>
                  <a:srgbClr val="ff0000"/>
                </a:solidFill>
                <a:latin typeface="方正仿宋简体"/>
                <a:ea typeface="方正仿宋简体"/>
              </a:rPr>
              <a:t>/</a:t>
            </a:r>
            <a:r>
              <a:rPr b="1" lang="zh-CN" sz="3600" spc="-1" strike="noStrike">
                <a:solidFill>
                  <a:srgbClr val="ff0000"/>
                </a:solidFill>
                <a:latin typeface="方正仿宋简体"/>
                <a:ea typeface="方正仿宋简体"/>
              </a:rPr>
              <a:t>攒</a:t>
            </a:r>
            <a:r>
              <a:rPr b="1" lang="zh-CN" sz="3600" spc="-1" strike="noStrike">
                <a:solidFill>
                  <a:srgbClr val="ff0000"/>
                </a:solidFill>
                <a:latin typeface="方正仿宋简体"/>
                <a:ea typeface="方正仿宋简体"/>
              </a:rPr>
              <a:t>(cuán)</a:t>
            </a:r>
            <a:r>
              <a:rPr b="1" lang="zh-CN" sz="3600" spc="-1" strike="noStrike">
                <a:solidFill>
                  <a:srgbClr val="ff0000"/>
                </a:solidFill>
                <a:latin typeface="方正仿宋简体"/>
                <a:ea typeface="方正仿宋简体"/>
              </a:rPr>
              <a:t>集</a:t>
            </a:r>
            <a:r>
              <a:rPr b="1" lang="zh-CN" sz="3600" spc="-1" strike="noStrike">
                <a:solidFill>
                  <a:srgbClr val="ff0000"/>
                </a:solidFill>
                <a:latin typeface="方正仿宋简体"/>
                <a:ea typeface="方正仿宋简体"/>
              </a:rPr>
              <a:t>/</a:t>
            </a:r>
            <a:r>
              <a:rPr b="1" lang="zh-CN" sz="3600" spc="-1" strike="noStrike">
                <a:solidFill>
                  <a:srgbClr val="ff0000"/>
                </a:solidFill>
                <a:latin typeface="方正仿宋简体"/>
                <a:ea typeface="方正仿宋简体"/>
              </a:rPr>
              <a:t>攒射</a:t>
            </a:r>
            <a:r>
              <a:rPr b="1" lang="zh-CN" sz="3600" spc="-1" strike="noStrike">
                <a:solidFill>
                  <a:srgbClr val="ff0000"/>
                </a:solidFill>
                <a:latin typeface="方正仿宋简体"/>
                <a:ea typeface="方正仿宋简体"/>
              </a:rPr>
              <a:t>/</a:t>
            </a:r>
            <a:r>
              <a:rPr b="1" lang="zh-CN" sz="3600" spc="-1" strike="noStrike">
                <a:solidFill>
                  <a:srgbClr val="ff0000"/>
                </a:solidFill>
                <a:latin typeface="方正仿宋简体"/>
                <a:ea typeface="方正仿宋简体"/>
              </a:rPr>
              <a:t>公子攒眉而答</a:t>
            </a:r>
            <a:r>
              <a:rPr b="1" lang="zh-CN" sz="3600" spc="-1" strike="noStrike">
                <a:solidFill>
                  <a:srgbClr val="ff0000"/>
                </a:solidFill>
                <a:latin typeface="方正仿宋简体"/>
                <a:ea typeface="方正仿宋简体"/>
              </a:rPr>
              <a:t>/</a:t>
            </a:r>
            <a:r>
              <a:rPr b="1" lang="zh-CN" sz="3600" spc="-1" strike="noStrike">
                <a:solidFill>
                  <a:srgbClr val="ff0000"/>
                </a:solidFill>
                <a:latin typeface="方正仿宋简体"/>
                <a:ea typeface="方正仿宋简体"/>
              </a:rPr>
              <a:t>腌臜</a:t>
            </a:r>
            <a:r>
              <a:rPr b="1" lang="zh-CN" sz="3600" spc="-1" strike="noStrike">
                <a:solidFill>
                  <a:srgbClr val="ff0000"/>
                </a:solidFill>
                <a:latin typeface="方正仿宋简体"/>
                <a:ea typeface="方正仿宋简体"/>
              </a:rPr>
              <a:t>(zā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33520" y="48769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虞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(yú)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侯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水旱无虞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尔虞我诈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虞舜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虞姬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(jī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2949480" cy="3581280"/>
          </a:xfrm>
          <a:prstGeom prst="rect">
            <a:avLst/>
          </a:prstGeom>
          <a:ln w="0">
            <a:noFill/>
          </a:ln>
        </p:spPr>
      </p:pic>
      <p:sp>
        <p:nvSpPr>
          <p:cNvPr id="509" name="">
            <a:hlinkClick r:id="rId2" action="ppaction://hlinksldjump"/>
          </p:cNvPr>
          <p:cNvSpPr/>
          <p:nvPr/>
        </p:nvSpPr>
        <p:spPr>
          <a:xfrm>
            <a:off x="3352680" y="1523880"/>
            <a:ext cx="5791320" cy="24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  <a:ea typeface="隶书"/>
              </a:rPr>
              <a:t>《水浒传》也称《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隶书"/>
              </a:rPr>
              <a:t>水浒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  <a:ea typeface="隶书"/>
              </a:rPr>
              <a:t>》、《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隶书"/>
              </a:rPr>
              <a:t>忠义水浒传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  <a:ea typeface="隶书"/>
              </a:rPr>
              <a:t>》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它并非一人一时之作，而是在民间口头传说，艺人讲说演唱的基础上由文人加工编撰而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  <a:ea typeface="隶书"/>
              </a:rPr>
              <a:t>是我国文学史上第一部描写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隶书"/>
              </a:rPr>
              <a:t>农民起义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  <a:ea typeface="隶书"/>
              </a:rPr>
              <a:t>全过程的长篇小说。它的主要倾向是“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隶书"/>
              </a:rPr>
              <a:t>官逼民反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  <a:ea typeface="隶书"/>
              </a:rPr>
              <a:t>”，局限在于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隶书"/>
              </a:rPr>
              <a:t>只反贪官，不反皇帝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533520" y="9907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别拗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(niù)/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执拗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拗脾气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拗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(ǎo)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开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拗断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拗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(ào)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口令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违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09480" y="228600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絮絮聒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(guō)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聒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聒噪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聒耳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刮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(guā)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风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搜刮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刮目相看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挺括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(kuò)/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概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09480" y="3809880"/>
            <a:ext cx="815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剜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(wān)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口割舌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剜肉医疮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宛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(wǎn)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然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宛转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婉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(wǎn)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转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婉辞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没半碗饭时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打碗花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豌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(wān)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豆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蜿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(wān)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蜒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手腕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大腕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609480" y="91440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没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(mò)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奈何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强人出没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(mò)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的去处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没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(mò)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齿不忘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没收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没落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始皇既没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(mò) /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没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(méi)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有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没精打采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没关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09480" y="3048120"/>
            <a:ext cx="815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死心塌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(tā)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地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塌实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坍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(tān)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塌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背心都溻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(tā)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湿了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邋遢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(tā)/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卧榻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(tà)/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竹榻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踢蹋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践踏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脚踏实地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脚步杂沓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纷至沓来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一沓（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dá)</a:t>
            </a:r>
            <a:r>
              <a:rPr b="1" lang="zh-CN" sz="36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1248480" y="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Times New Roman"/>
              </a:rPr>
              <a:t>古今异义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68360" y="9079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杨志这一行人要</a:t>
            </a:r>
            <a:r>
              <a:rPr b="1" lang="zh-CN" sz="2800" spc="-1" strike="noStrike" u="sng">
                <a:solidFill>
                  <a:srgbClr val="cc00cc"/>
                </a:solidFill>
                <a:uFillTx/>
                <a:latin typeface="Times New Roman"/>
              </a:rPr>
              <a:t>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六月十五日生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820160" y="2006640"/>
            <a:ext cx="12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这厮不</a:t>
            </a:r>
            <a:r>
              <a:rPr b="1" lang="zh-CN" sz="2800" spc="-1" strike="noStrike" u="sng">
                <a:solidFill>
                  <a:srgbClr val="cc00cc"/>
                </a:solidFill>
                <a:uFillTx/>
                <a:latin typeface="Times New Roman"/>
              </a:rPr>
              <a:t>值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便骂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629000" y="3048120"/>
            <a:ext cx="19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这里正是</a:t>
            </a:r>
            <a:r>
              <a:rPr b="1" lang="zh-CN" sz="2400" spc="-1" strike="noStrike" u="sng">
                <a:solidFill>
                  <a:srgbClr val="cc00cc"/>
                </a:solidFill>
                <a:uFillTx/>
                <a:latin typeface="Times New Roman"/>
              </a:rPr>
              <a:t>强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出没的</a:t>
            </a:r>
            <a:r>
              <a:rPr b="1" lang="zh-CN" sz="2400" spc="-1" strike="noStrike" u="sng">
                <a:solidFill>
                  <a:srgbClr val="cc0099"/>
                </a:solidFill>
                <a:uFillTx/>
                <a:latin typeface="Times New Roman"/>
              </a:rPr>
              <a:t>去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104560" y="4800600"/>
            <a:ext cx="133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只见对面松林里</a:t>
            </a:r>
            <a:r>
              <a:rPr b="1" lang="zh-CN" sz="2400" spc="-1" strike="noStrike" u="sng">
                <a:solidFill>
                  <a:srgbClr val="cc00cc"/>
                </a:solidFill>
                <a:uFillTx/>
                <a:latin typeface="Times New Roman"/>
              </a:rPr>
              <a:t>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着一个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029240" y="5791320"/>
            <a:ext cx="16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你</a:t>
            </a:r>
            <a:r>
              <a:rPr b="1" lang="zh-CN" sz="2400" spc="-1" strike="noStrike" u="sng">
                <a:solidFill>
                  <a:srgbClr val="cc00cc"/>
                </a:solidFill>
                <a:uFillTx/>
                <a:latin typeface="Times New Roman"/>
              </a:rPr>
              <a:t>理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甚么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491840" y="15048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古义：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547160" y="15048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今义：拿，拿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850760" y="2538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古义：有必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964040" y="25909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今义：做某事有意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576080" y="3581280"/>
            <a:ext cx="8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强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古义：强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805360" y="3505320"/>
            <a:ext cx="48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今义：能独当一面，坚忍不拔，有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作为的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175480" y="4343400"/>
            <a:ext cx="22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去处 古义：地方。   今义：去的地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975680" y="52023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古义：遮蔽，躲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420520" y="51814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今义：名词，影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052000" y="61927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古义：懂得，知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960800" y="61722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今义：理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8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/>
          <p:nvPr/>
        </p:nvSpPr>
        <p:spPr>
          <a:xfrm>
            <a:off x="2412000" y="1828800"/>
            <a:ext cx="133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五贯便依你五贯，只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们一瓢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627560" y="2971800"/>
            <a:ext cx="10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我们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胡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买这桶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025360" y="4114800"/>
            <a:ext cx="87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连累我们也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说了几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551240" y="54100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那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计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是吴用主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937520" y="380880"/>
            <a:ext cx="534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你左右将到村里去卖，一般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钱，便卖些与我们，打什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紧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379520" y="11430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古义：付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177520" y="11635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今义：借了钱归还别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066120" y="24382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古义：（买卖场合）多给，让人占点便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522200" y="24382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今义：宽恕，饶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670760" y="34495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古义：索性，干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168960" y="34495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今义：任意；马虎，随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10320" y="47451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古义：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564800" y="47451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今义：吃东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287360" y="60404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古义：计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883840" y="60199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今义：计算比较；争论；算计，筹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4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050920" y="115560"/>
            <a:ext cx="38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基本故事情节</a:t>
            </a:r>
            <a:r>
              <a:rPr b="1" lang="zh-CN" sz="4400" spc="-1" strike="noStrike">
                <a:solidFill>
                  <a:srgbClr val="e40000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23640" y="1485720"/>
            <a:ext cx="7489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故事发生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杨志改时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  <a:ea typeface="黑体"/>
              </a:rPr>
              <a:t>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生辰纲（开头至“今日天下怎的不太平”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故事发展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七雄贩枣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蒙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杨志（“杨志却待要回言”至“自去一边树下歇凉”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故事进一步发展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白胜设计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官军（“没半碗饭时”至“也这般罗唣”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7961400" y="1330200"/>
            <a:ext cx="1003320" cy="49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华文行楷"/>
              </a:rPr>
              <a:t>智取生辰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1" dur="500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/>
          </p:nvPr>
        </p:nvSpPr>
        <p:spPr>
          <a:xfrm>
            <a:off x="394920" y="2714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故事高潮：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杨志无奈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买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白酒（“那对过众军汉见了”至“自下冈子去了”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故事结局：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杨志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误失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生辰纲（“那七个贩枣子的”至“挣不得，说不得”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尾声：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吴用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智取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生辰纲（最后一段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395280" y="3828960"/>
            <a:ext cx="8424720" cy="29131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8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385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3" dur="385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5" dur="385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7" dur="385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385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4" dur="385" fill="hold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6" dur="385" fill="hold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8" dur="385" fill="hold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385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5" dur="385" fill="hold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7" dur="385" fill="hold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9" dur="385" fill="hold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617560" y="439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分析小说情节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生辰纲是什么东西？</a:t>
            </a:r>
            <a:r>
              <a:rPr b="1" lang="zh-CN" sz="4000" spc="-1" strike="noStrike">
                <a:solidFill>
                  <a:srgbClr val="00ff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为太师蔡京祝寿而进献的大批财物，都是搜刮百姓血汗钱的不义之财。</a:t>
            </a:r>
            <a:r>
              <a:rPr b="1" lang="zh-CN" sz="4000" spc="-1" strike="noStrike">
                <a:solidFill>
                  <a:srgbClr val="00ff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生辰纲是谁取的？又是用怎样的方式从谁的手中取走的？</a:t>
            </a:r>
            <a:r>
              <a:rPr b="1" lang="zh-CN" sz="4000" spc="-1" strike="noStrike">
                <a:solidFill>
                  <a:srgbClr val="00ff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黑体"/>
                <a:ea typeface="黑体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晁盖、吴用等八条好汉；智取；杨志</a:t>
            </a:r>
            <a:r>
              <a:rPr b="0" lang="zh-CN" sz="4000" spc="-1" strike="noStrike">
                <a:solidFill>
                  <a:srgbClr val="00ff00"/>
                </a:solidFill>
                <a:latin typeface="黑体"/>
                <a:ea typeface="黑体"/>
              </a:rPr>
              <a:t> 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78936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140360" y="4221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7" dur="500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2" dur="500"/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、小说以“生辰纲”的争夺为中心事件，采用双线结构，明线是什么？暗线又是什么？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978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明线——杨志押送生辰纲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     </a:t>
            </a:r>
            <a:r>
              <a:rPr b="0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暗线——晁盖智取生辰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、请同学们跳读课文，筛选信息，以人物的主要行动为归纳点，简要分析出明、暗两条线索在什么时间，什么地点交接在一起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797920" y="595008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六月初四正午；黄泥冈松树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619280" y="1484280"/>
            <a:ext cx="1657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708360" y="1484280"/>
            <a:ext cx="934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445080" y="1484280"/>
            <a:ext cx="935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042920" y="5229360"/>
            <a:ext cx="7489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900000" y="5805360"/>
            <a:ext cx="2808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3" dur="500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8" dur="500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3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84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ff33cc"/>
                </a:solidFill>
                <a:latin typeface="Arial"/>
              </a:rPr>
              <a:t>、 你认为杨志是个怎样的人？文章是从哪些方面加以刻画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68360" y="3565440"/>
            <a:ext cx="74883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精明谨慎、粗暴蛮横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语言、动作、心理、神态、环境烘托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95280" y="26028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继续赏析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课文内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532720" cy="43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、杨志为什么会失败？试从天时、地利、人和的角度加以分析。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、吴用他们的天时、地利、人和又如何呢？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685800" y="1295280"/>
            <a:ext cx="8153280" cy="1783800"/>
          </a:xfrm>
          <a:prstGeom prst="rect">
            <a:avLst/>
          </a:prstGeom>
          <a:noFill/>
          <a:ln w="93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     </a:t>
            </a:r>
            <a:r>
              <a:rPr b="1" lang="zh-CN" sz="44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“</a:t>
            </a:r>
            <a:r>
              <a:rPr b="1" lang="zh-CN" sz="44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不读水浒， 不知天下之奇。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                                    ——</a:t>
            </a:r>
            <a:r>
              <a:rPr b="1" lang="zh-CN" sz="44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金圣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62120" y="3581280"/>
            <a:ext cx="8001000" cy="1630440"/>
          </a:xfrm>
          <a:prstGeom prst="rect">
            <a:avLst/>
          </a:prstGeom>
          <a:noFill/>
          <a:ln w="93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Times New Roman"/>
                <a:ea typeface="华文新魏"/>
              </a:rPr>
              <a:t>金圣叹评“六大才子书”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Times New Roman"/>
                <a:ea typeface="华文新魏"/>
              </a:rPr>
              <a:t>《离骚》    《庄子》    《史记》   《西厢记》《少陵集》《水浒传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/>
          </p:nvPr>
        </p:nvSpPr>
        <p:spPr>
          <a:xfrm>
            <a:off x="75564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天时：天气炎热，手下的人无法忍受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地利；黄泥冈，强盗出没的地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人和：内部矛盾重重，军健、虞候、老都管对他怨恨深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826920" y="4508640"/>
            <a:ext cx="705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99"/>
                </a:solidFill>
                <a:latin typeface="Times New Roman"/>
                <a:ea typeface="华文行楷"/>
              </a:rPr>
              <a:t>三者尽失，注定失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2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867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天时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天热，敌人口渴，正好卖酒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地利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黄泥冈，松树林，敌人欲歇，又可   模糊    对方的视线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人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兄弟七人，相互配合。蒙骗对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826920" y="4869000"/>
            <a:ext cx="727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华文行楷"/>
                <a:ea typeface="华文行楷"/>
              </a:rPr>
              <a:t>三者皆得</a:t>
            </a:r>
            <a:r>
              <a:rPr b="0" lang="zh-CN" sz="6000" spc="-1" strike="noStrike">
                <a:solidFill>
                  <a:srgbClr val="ff33cc"/>
                </a:solidFill>
                <a:latin typeface="华文行楷"/>
                <a:ea typeface="华文行楷"/>
              </a:rPr>
              <a:t>,</a:t>
            </a:r>
            <a:r>
              <a:rPr b="0" lang="zh-CN" sz="6000" spc="-1" strike="noStrike">
                <a:solidFill>
                  <a:srgbClr val="ff33cc"/>
                </a:solidFill>
                <a:latin typeface="华文行楷"/>
                <a:ea typeface="华文行楷"/>
              </a:rPr>
              <a:t>必定成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0336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e40000"/>
                </a:solidFill>
                <a:latin typeface="Arial"/>
              </a:rPr>
              <a:t>、吴用的“智”表现在哪些方面？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５、杨志这么精明的人，为什么最终还是失败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智用天时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智用地利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智用矛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智用计谋，实行“软取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539640" y="1052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１、吴用他们的计谋高妙，无懈可击（杨志的失败，正好突出吴用的精明——烘托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２、杨志自身的性格缺陷：急功近利，粗暴蛮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６、找出本文环境描写的句子并分析其作用．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　　　烘托气氛，有助于刻画人物性格，推动故事情节的发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（１）天热成为冲突发生、发展、激化以至解决的重要客观原因之一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（２）同时吴用他们也正是利用了天气炎热的条件才得以成功，所以对天气炎热的描写完全是为智取服务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457200" y="30492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00"/>
                </a:solidFill>
                <a:latin typeface="Arial"/>
                <a:ea typeface="华文新魏"/>
              </a:rPr>
              <a:t>梁山好汉的绰号知道吗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33520" y="1279440"/>
            <a:ext cx="25905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智多星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入云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立地太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短命二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活阎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白日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赤发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青面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172200" y="1295280"/>
            <a:ext cx="2209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阮小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公孙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吴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阮小五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杨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阮小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白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刘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 flipV="1">
            <a:off x="2438280" y="1676160"/>
            <a:ext cx="365760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2514600" y="2286000"/>
            <a:ext cx="36576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2742840" y="1752480"/>
            <a:ext cx="3328920" cy="10670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2819160" y="3429000"/>
            <a:ext cx="33526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 flipV="1">
            <a:off x="2484360" y="4080960"/>
            <a:ext cx="3672000" cy="576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2361960" y="4800600"/>
            <a:ext cx="380988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 flipV="1">
            <a:off x="2437920" y="5410080"/>
            <a:ext cx="4038840" cy="6098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2361960" y="4226040"/>
            <a:ext cx="3794040" cy="17175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3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3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3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8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8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 txBox="1"/>
          <p:nvPr/>
        </p:nvSpPr>
        <p:spPr>
          <a:xfrm>
            <a:off x="2514600" y="533520"/>
            <a:ext cx="417204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把握矛盾冲突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673" name=""/>
          <p:cNvSpPr/>
          <p:nvPr/>
        </p:nvSpPr>
        <p:spPr>
          <a:xfrm>
            <a:off x="2971800" y="1447920"/>
            <a:ext cx="36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主要人物：杨志、老督管、虞侯、军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晁盖、吴用、白胜、公孙胜、刘唐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阮氏三兄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853200" y="31161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主要矛盾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027040" y="3116160"/>
            <a:ext cx="140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杨志押送与晁盖、吴用等人夺取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矛盾冲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869040" y="4724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次要矛盾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262480" y="4648320"/>
            <a:ext cx="55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杨志与军健、虞侯、老督管之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的内部矛盾冲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9" name=""/>
          <p:cNvSpPr/>
          <p:nvPr/>
        </p:nvSpPr>
        <p:spPr>
          <a:xfrm>
            <a:off x="380880" y="30492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方正康体简体"/>
              </a:rPr>
              <a:t>自然环境描写的作用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9480" y="16002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1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、烘托气氛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09480" y="2666880"/>
            <a:ext cx="788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2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、有助于刻画人物性格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09480" y="373392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3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、能推动故事情节的开展，也就是说天热成为矛盾冲突发生、发展、激化以至解决的重要客观原因之一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2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7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>
            <a:off x="1616040" y="1484280"/>
            <a:ext cx="58132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    </a:t>
            </a: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如杨志这样精明的人为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么还如此刚愎自用，不懂得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理好内部关系，试从全书从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的出身、追求来分析他的矛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性格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762120" y="198108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a50021"/>
                </a:solidFill>
                <a:latin typeface="方正隶变简体"/>
                <a:ea typeface="方正隶变简体"/>
              </a:rPr>
              <a:t>从《水浒传》成书到现在，近</a:t>
            </a:r>
            <a:r>
              <a:rPr b="1" lang="zh-CN" sz="4000" spc="-1" strike="noStrike">
                <a:solidFill>
                  <a:srgbClr val="a50021"/>
                </a:solidFill>
                <a:latin typeface="方正隶变简体"/>
                <a:ea typeface="方正隶变简体"/>
              </a:rPr>
              <a:t>700</a:t>
            </a:r>
            <a:r>
              <a:rPr b="1" lang="zh-CN" sz="4000" spc="-1" strike="noStrike">
                <a:solidFill>
                  <a:srgbClr val="a50021"/>
                </a:solidFill>
                <a:latin typeface="方正隶变简体"/>
                <a:ea typeface="方正隶变简体"/>
              </a:rPr>
              <a:t>年来，人们常说的一个成语“逼上梁山”，充分反映了另一个成语“官逼民反”的真理。今天要学习的《智取生辰纲》，是主人公杨志被“逼”上梁山的前奏曲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380880" y="6094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出身名门，但地位不高，因杀了泼皮牛二，发配大名府，受梁中书抬爱，做了个提辖，“比得芥菜子大小的官职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04920" y="39625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多年流落在外，深谙江湖凶险，故押送途中不打旗招摇，而作行客打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85800" y="274320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22f02"/>
                </a:solidFill>
                <a:latin typeface="Times New Roman"/>
                <a:ea typeface="华文行楷"/>
              </a:rPr>
              <a:t>一心求官，珍惜升官的机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85800" y="541008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22f02"/>
                </a:solidFill>
                <a:latin typeface="Times New Roman"/>
                <a:ea typeface="华文行楷"/>
              </a:rPr>
              <a:t>智勇兼备，机警善变，有见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6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c8ec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3276720" cy="3003480"/>
          </a:xfrm>
          <a:prstGeom prst="rect">
            <a:avLst/>
          </a:prstGeom>
          <a:ln w="0">
            <a:noFill/>
          </a:ln>
        </p:spPr>
      </p:pic>
      <p:sp>
        <p:nvSpPr>
          <p:cNvPr id="692" name="">
            <a:hlinkClick r:id="rId4" action="ppaction://hlinksldjump"/>
          </p:cNvPr>
          <p:cNvSpPr/>
          <p:nvPr/>
        </p:nvSpPr>
        <p:spPr>
          <a:xfrm>
            <a:off x="3276720" y="91440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杨志是否因“愚”而败？试分析他失败的原因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28600" y="2895480"/>
            <a:ext cx="86868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杨志内部的分崩离析，杨志与军健、虞候、老都管之间的矛盾冲突十分尖锐，这属于奴才与奴才之间的矛盾，这种矛盾为吴用等人智取提供了可乘之机，这也是杨志失败的主要原因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5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>
            <a:off x="380880" y="304920"/>
            <a:ext cx="579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方正康体简体"/>
              </a:rPr>
              <a:t>杨志的典型意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24000" y="1125360"/>
            <a:ext cx="5943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用来衬托吴用等人超人的智慧，揭示主题。杨志如此忠于职守，全力效命官府，居然也被逼上梁山，意义非同一般。因为他“押送”的是不义之财，怎能不失呢？社会的黑暗、政治的腐败，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8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位英雄夺取不义之财，也是理所当然的。这些，都为全书的主题面张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7" name="" descr=""/>
          <p:cNvPicPr/>
          <p:nvPr/>
        </p:nvPicPr>
        <p:blipFill>
          <a:blip r:embed="rId2"/>
          <a:stretch/>
        </p:blipFill>
        <p:spPr>
          <a:xfrm>
            <a:off x="6400800" y="1371600"/>
            <a:ext cx="2514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8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03360" y="907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ff"/>
                </a:solidFill>
                <a:latin typeface="Arial"/>
                <a:ea typeface="隶书"/>
              </a:rPr>
              <a:t>杨 志 之 智</a:t>
            </a:r>
            <a:endParaRPr b="0" lang="en-US" sz="6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441936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 </a:t>
            </a:r>
            <a:r>
              <a:rPr b="0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1.</a:t>
            </a:r>
            <a:r>
              <a:rPr b="0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起止时辰变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>
            <a:hlinkClick r:id="" action="ppaction://hlinkshowjump?jump=previousslide"/>
          </p:cNvPr>
          <p:cNvSpPr/>
          <p:nvPr/>
        </p:nvSpPr>
        <p:spPr>
          <a:xfrm>
            <a:off x="845964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10800"/>
                </a:moveTo>
                <a:lnTo>
                  <a:pt x="17824" y="3794"/>
                </a:lnTo>
                <a:lnTo>
                  <a:pt x="17824" y="17806"/>
                </a:lnTo>
                <a:close/>
              </a:path>
            </a:pathLst>
          </a:cu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80880" y="2666880"/>
            <a:ext cx="312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09480" y="251460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2.</a:t>
            </a:r>
            <a:r>
              <a:rPr b="0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催逼赶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33520" y="274320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105520" y="25146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精明谨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09480" y="3276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3.</a:t>
            </a:r>
            <a:r>
              <a:rPr b="0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斥虞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105520" y="32004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忠于职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09480" y="403848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4.</a:t>
            </a:r>
            <a:r>
              <a:rPr b="0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顶都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105520" y="4038480"/>
            <a:ext cx="27432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4.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官欲甚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09480" y="48006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5.</a:t>
            </a:r>
            <a:r>
              <a:rPr b="0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追问枣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80880" y="5562720"/>
            <a:ext cx="38862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 </a:t>
            </a:r>
            <a:r>
              <a:rPr b="0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6.</a:t>
            </a:r>
            <a:r>
              <a:rPr b="0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警惕贩酒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105520" y="17524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机警善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08760" y="-11160"/>
            <a:ext cx="105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小  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0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ff"/>
                </a:solidFill>
                <a:latin typeface="Arial"/>
                <a:ea typeface="隶书"/>
              </a:rPr>
              <a:t>吴 用 之 智</a:t>
            </a:r>
            <a:endParaRPr b="0" lang="en-US" sz="6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隶书"/>
                <a:ea typeface="隶书"/>
              </a:rPr>
              <a:t>  </a:t>
            </a:r>
            <a:r>
              <a:rPr b="0" lang="zh-CN" sz="4000" spc="-1" strike="noStrike">
                <a:solidFill>
                  <a:srgbClr val="0000cc"/>
                </a:solidFill>
                <a:latin typeface="隶书"/>
                <a:ea typeface="隶书"/>
              </a:rPr>
              <a:t>1.</a:t>
            </a:r>
            <a:r>
              <a:rPr b="0" lang="zh-CN" sz="4000" spc="-1" strike="noStrike">
                <a:solidFill>
                  <a:srgbClr val="0000cc"/>
                </a:solidFill>
                <a:latin typeface="隶书"/>
                <a:ea typeface="隶书"/>
              </a:rPr>
              <a:t>智借天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隶书"/>
                <a:ea typeface="隶书"/>
              </a:rPr>
              <a:t>  </a:t>
            </a:r>
            <a:r>
              <a:rPr b="0" lang="zh-CN" sz="4000" spc="-1" strike="noStrike">
                <a:solidFill>
                  <a:srgbClr val="0000cc"/>
                </a:solidFill>
                <a:latin typeface="隶书"/>
                <a:ea typeface="隶书"/>
              </a:rPr>
              <a:t>2.</a:t>
            </a:r>
            <a:r>
              <a:rPr b="0" lang="zh-CN" sz="4000" spc="-1" strike="noStrike">
                <a:solidFill>
                  <a:srgbClr val="0000cc"/>
                </a:solidFill>
                <a:latin typeface="隶书"/>
                <a:ea typeface="隶书"/>
              </a:rPr>
              <a:t>智借地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隶书"/>
                <a:ea typeface="隶书"/>
              </a:rPr>
              <a:t>  </a:t>
            </a:r>
            <a:r>
              <a:rPr b="0" lang="zh-CN" sz="4000" spc="-1" strike="noStrike">
                <a:solidFill>
                  <a:srgbClr val="0000cc"/>
                </a:solidFill>
                <a:latin typeface="隶书"/>
                <a:ea typeface="隶书"/>
              </a:rPr>
              <a:t>3.</a:t>
            </a:r>
            <a:r>
              <a:rPr b="0" lang="zh-CN" sz="4000" spc="-1" strike="noStrike">
                <a:solidFill>
                  <a:srgbClr val="0000cc"/>
                </a:solidFill>
                <a:latin typeface="隶书"/>
                <a:ea typeface="隶书"/>
              </a:rPr>
              <a:t>智借人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隶书"/>
                <a:ea typeface="隶书"/>
              </a:rPr>
              <a:t>  </a:t>
            </a:r>
            <a:r>
              <a:rPr b="0" lang="zh-CN" sz="4000" spc="-1" strike="noStrike">
                <a:solidFill>
                  <a:srgbClr val="0000cc"/>
                </a:solidFill>
                <a:latin typeface="隶书"/>
                <a:ea typeface="隶书"/>
              </a:rPr>
              <a:t>4.</a:t>
            </a:r>
            <a:r>
              <a:rPr b="0" lang="zh-CN" sz="4000" spc="-1" strike="noStrike">
                <a:solidFill>
                  <a:srgbClr val="0000cc"/>
                </a:solidFill>
                <a:latin typeface="隶书"/>
                <a:ea typeface="隶书"/>
              </a:rPr>
              <a:t>智用计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276720" y="3500280"/>
            <a:ext cx="215640" cy="2016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203640" y="378936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492360" y="3357720"/>
            <a:ext cx="5867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隶书"/>
              </a:rPr>
              <a:t>乔装——稳住对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隶书"/>
              </a:rPr>
              <a:t>诱饵——佯争酒、佯不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隶书"/>
              </a:rPr>
              <a:t>下药——巧下药，麻翻对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>
            <a:hlinkClick r:id="" action="ppaction://hlinkshowjump?jump=previousslide"/>
          </p:cNvPr>
          <p:cNvSpPr/>
          <p:nvPr/>
        </p:nvSpPr>
        <p:spPr>
          <a:xfrm>
            <a:off x="845964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10800"/>
                </a:moveTo>
                <a:lnTo>
                  <a:pt x="17824" y="3794"/>
                </a:lnTo>
                <a:lnTo>
                  <a:pt x="17824" y="17806"/>
                </a:lnTo>
                <a:close/>
              </a:path>
            </a:pathLst>
          </a:cu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0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500"/>
                            </p:stCondLst>
                            <p:childTnLst>
                              <p:par>
                                <p:cTn id="8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4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76057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d60093"/>
                </a:solidFill>
                <a:latin typeface="Arial"/>
                <a:ea typeface="隶书"/>
              </a:rPr>
              <a:t>杨 志 之</a:t>
            </a:r>
            <a:r>
              <a:rPr b="0" lang="zh-CN" sz="6600" spc="-1" strike="noStrike">
                <a:solidFill>
                  <a:srgbClr val="e40000"/>
                </a:solidFill>
                <a:latin typeface="Arial"/>
                <a:ea typeface="隶书"/>
              </a:rPr>
              <a:t> </a:t>
            </a:r>
            <a:r>
              <a:rPr b="0" lang="zh-CN" sz="6600" spc="-1" strike="noStrike">
                <a:solidFill>
                  <a:srgbClr val="ff00ff"/>
                </a:solidFill>
                <a:latin typeface="Arial"/>
                <a:ea typeface="隶书"/>
              </a:rPr>
              <a:t>不 智</a:t>
            </a:r>
            <a:endParaRPr b="0" lang="en-US" sz="6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03360" y="1904760"/>
            <a:ext cx="854064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  </a:t>
            </a:r>
            <a:r>
              <a:rPr b="0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1.</a:t>
            </a:r>
            <a:r>
              <a:rPr b="0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刚愎自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  </a:t>
            </a:r>
            <a:r>
              <a:rPr b="0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2.</a:t>
            </a:r>
            <a:r>
              <a:rPr b="0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对部下凶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  </a:t>
            </a:r>
            <a:r>
              <a:rPr b="0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3.</a:t>
            </a:r>
            <a:r>
              <a:rPr b="0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不体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  </a:t>
            </a:r>
            <a:r>
              <a:rPr b="0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4.</a:t>
            </a:r>
            <a:r>
              <a:rPr b="0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缺乏沟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>
            <a:hlinkClick r:id="rId1" action="ppaction://hlinksldjump"/>
          </p:cNvPr>
          <p:cNvSpPr/>
          <p:nvPr/>
        </p:nvSpPr>
        <p:spPr>
          <a:xfrm>
            <a:off x="8317080" y="6093000"/>
            <a:ext cx="287280" cy="21564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764" h="21600">
                <a:moveTo>
                  <a:pt x="0" y="0"/>
                </a:moveTo>
                <a:lnTo>
                  <a:pt x="28764" y="0"/>
                </a:lnTo>
                <a:lnTo>
                  <a:pt x="28764" y="21600"/>
                </a:lnTo>
                <a:lnTo>
                  <a:pt x="0" y="21600"/>
                </a:lnTo>
                <a:close/>
              </a:path>
              <a:path fill="lightenLess" w="28764" h="21600">
                <a:moveTo>
                  <a:pt x="0" y="0"/>
                </a:moveTo>
                <a:lnTo>
                  <a:pt x="28764" y="0"/>
                </a:lnTo>
                <a:lnTo>
                  <a:pt x="27364" y="1400"/>
                </a:lnTo>
                <a:lnTo>
                  <a:pt x="1400" y="1400"/>
                </a:lnTo>
                <a:close/>
              </a:path>
              <a:path fill="darken" w="28764" h="21600">
                <a:moveTo>
                  <a:pt x="28764" y="0"/>
                </a:moveTo>
                <a:lnTo>
                  <a:pt x="28764" y="21600"/>
                </a:lnTo>
                <a:lnTo>
                  <a:pt x="27364" y="20200"/>
                </a:lnTo>
                <a:lnTo>
                  <a:pt x="27364" y="1400"/>
                </a:lnTo>
                <a:close/>
              </a:path>
              <a:path fill="darkenLess" w="28764" h="21600">
                <a:moveTo>
                  <a:pt x="2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4" y="20200"/>
                </a:lnTo>
                <a:close/>
              </a:path>
              <a:path fill="lighten" w="2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4" h="21600">
                <a:moveTo>
                  <a:pt x="7376" y="10800"/>
                </a:moveTo>
                <a:lnTo>
                  <a:pt x="21388" y="3794"/>
                </a:lnTo>
                <a:lnTo>
                  <a:pt x="21388" y="17806"/>
                </a:lnTo>
                <a:close/>
              </a:path>
            </a:pathLst>
          </a:cu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0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1447920" y="1752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508040" y="1927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041880" y="17226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智用天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041880" y="2484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智用地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041880" y="33228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  <a:ea typeface="华文新魏"/>
              </a:rPr>
              <a:t>智用矛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041880" y="4160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  <a:ea typeface="华文新魏"/>
              </a:rPr>
              <a:t>智用计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251400" y="4525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696080" y="2133720"/>
            <a:ext cx="349200" cy="2361960"/>
          </a:xfrm>
          <a:custGeom>
            <a:avLst/>
            <a:gdLst>
              <a:gd name="textAreaLeft" fmla="*/ 0 w 349200"/>
              <a:gd name="textAreaRight" fmla="*/ 126000 w 34920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832040" y="5335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927080" y="1870200"/>
            <a:ext cx="115596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变更起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927080" y="2484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提醒军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584360" y="3222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927080" y="33228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盘问枣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003400" y="40845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谨慎买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371600" y="2209680"/>
            <a:ext cx="152280" cy="2210040"/>
          </a:xfrm>
          <a:custGeom>
            <a:avLst/>
            <a:gdLst>
              <a:gd name="textAreaLeft" fmla="*/ 97200 w 152280"/>
              <a:gd name="textAreaRight" fmla="*/ 152640 w 15228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886200" y="2666880"/>
            <a:ext cx="1371600" cy="1524240"/>
          </a:xfrm>
          <a:prstGeom prst="octagon">
            <a:avLst>
              <a:gd name="adj" fmla="val 29287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</a:rPr>
              <a:t>智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796000" y="5373720"/>
            <a:ext cx="10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Wingdings"/>
                <a:ea typeface="Wingdings"/>
              </a:rPr>
              <a:t>得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472120" y="54100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失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048120" y="1371600"/>
            <a:ext cx="990360" cy="1219320"/>
          </a:xfrm>
          <a:prstGeom prst="line">
            <a:avLst/>
          </a:prstGeom>
          <a:ln w="50760">
            <a:solidFill>
              <a:srgbClr val="9f9fb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H="1">
            <a:off x="5028840" y="1371600"/>
            <a:ext cx="1066680" cy="121932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3048120" y="4266720"/>
            <a:ext cx="1218960" cy="1219320"/>
          </a:xfrm>
          <a:prstGeom prst="line">
            <a:avLst/>
          </a:prstGeom>
          <a:ln w="50760">
            <a:solidFill>
              <a:srgbClr val="9f9fb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H="1" flipV="1">
            <a:off x="4876560" y="4266720"/>
            <a:ext cx="990360" cy="129564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8138520" y="20131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华文行楷"/>
              </a:rPr>
              <a:t>好汉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8327880" y="292572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160840" y="239724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行楷"/>
              </a:rPr>
              <a:t>足智多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13280" y="1968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  <a:ea typeface="华文行楷"/>
              </a:rPr>
              <a:t>杨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-239400" y="2514600"/>
            <a:ext cx="127764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行楷"/>
              </a:rPr>
              <a:t>机警谨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2"/>
          <a:stretch/>
        </p:blipFill>
        <p:spPr>
          <a:xfrm>
            <a:off x="4643280" y="1700280"/>
            <a:ext cx="3276720" cy="411480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826920" y="1773360"/>
            <a:ext cx="3237120" cy="163044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杨志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精明能干，但刚愎自用，对部下横暴。其失败的根源在于内部分化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68000" y="2565000"/>
            <a:ext cx="5040360" cy="23367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吴用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：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足智多谋、智用天时、地利、人和。其成功的根源在于内部团结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754" name="" descr=""/>
          <p:cNvPicPr/>
          <p:nvPr/>
        </p:nvPicPr>
        <p:blipFill>
          <a:blip r:embed="rId1"/>
          <a:stretch/>
        </p:blipFill>
        <p:spPr>
          <a:xfrm>
            <a:off x="6012000" y="2349360"/>
            <a:ext cx="232380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6" name=""/>
          <p:cNvSpPr/>
          <p:nvPr/>
        </p:nvSpPr>
        <p:spPr>
          <a:xfrm>
            <a:off x="1042920" y="1341360"/>
            <a:ext cx="7567560" cy="28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讨论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本文运用了三十六计中的哪几计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0" y="404640"/>
            <a:ext cx="28432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66cc"/>
                </a:solidFill>
                <a:uFillTx/>
                <a:latin typeface="Times New Roman"/>
                <a:ea typeface="华文行楷"/>
                <a:hlinkClick r:id="rId1"/>
              </a:rPr>
              <a:t>青面兽杨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236520" y="1295280"/>
            <a:ext cx="3009960" cy="464832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3492360" y="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杨志，在梁山好汉中排名第十七位，梁山军马里做马军八虎骑兼先锋使，排行第三。林冲来到梁山，王伦不容，要他先下山取“投名状”杀一人上山。不想正巧碰见青面兽杨志，两人拔刀大战三十余回，不分胜负。原来杨志是杨老令公杨家将的后代，本来是殿帅府制使，因押送花石纲在黄河里翻了船畏罪逃避。与林冲不打不相识，被王伦一起邀上梁山。但杨志一心想到东京找个官做，不肯入伙。杨志在东京花光了身上的钱，只好去卖祖传宝刀，与泼皮牛二发生争吵，不得已杀了牛二，被发配到大名府充军。为梁中书护送生辰纲去东京，又被晁盖等所劫。杨志无奈和鲁智深打上二龙山，杀了邓龙，做了山寨之主。后归了梁山泊。征讨方腊时在途中病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8" name=""/>
          <p:cNvSpPr/>
          <p:nvPr/>
        </p:nvSpPr>
        <p:spPr>
          <a:xfrm>
            <a:off x="1272960" y="533520"/>
            <a:ext cx="32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瞒天过海——伪装客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180800" y="1219320"/>
            <a:ext cx="30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暗渡陈仓——走小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272960" y="1905120"/>
            <a:ext cx="32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以逸待劳——林中休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272960" y="2590920"/>
            <a:ext cx="32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声东击西——吴用下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088640" y="3276720"/>
            <a:ext cx="27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混水摸鱼——偷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088640" y="3962520"/>
            <a:ext cx="27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抛砖引玉——送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196640" y="4648320"/>
            <a:ext cx="32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欲擒故纵——不肯卖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288800" y="5334120"/>
            <a:ext cx="35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走为上策——劫走生辰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473480" y="6019920"/>
            <a:ext cx="411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釜底抽薪——杨志断了升官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9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4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4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9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0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8" name=""/>
          <p:cNvSpPr/>
          <p:nvPr/>
        </p:nvSpPr>
        <p:spPr>
          <a:xfrm>
            <a:off x="609480" y="76212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    “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三代将门之后”的杨志，走上梁山的道路更为曲折。“一刀一枪，搏个封妻荫子”是他的生活目的。为了实现这个目的，他可以委曲求全。失陷“花石纲”并没有动摇他追求“功名利禄”意愿，高俅的排斥也未能把他从这条路上拉回来，在充军得到梁中书的青睐后，追求名利的欲望也更加炽烈了。在比武声上斗狠逞能，护送生辰纲时的兢兢业业，都充分表现了这一点。直到“生辰纲”被劫，不仅功名的道路被截断了，而且有落入牢狱的凶险，他才有万不得已的情况下上了梁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>
            <a:off x="228600" y="1676520"/>
            <a:ext cx="891540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ff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预测一下此后的情节发展…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ff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官府要追查此案，可以从什么地方入手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ff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为什么当时不杀人灭口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ff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想一想吴用的计策有没有漏洞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839880" y="38088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cc"/>
                </a:solidFill>
                <a:latin typeface="Times New Roman"/>
                <a:ea typeface="华文新魏"/>
              </a:rPr>
              <a:t>考考你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2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3852720" cy="4343400"/>
          </a:xfrm>
          <a:prstGeom prst="rect">
            <a:avLst/>
          </a:prstGeom>
          <a:ln w="0">
            <a:noFill/>
          </a:ln>
        </p:spPr>
      </p:pic>
      <p:sp>
        <p:nvSpPr>
          <p:cNvPr id="773" name=""/>
          <p:cNvSpPr/>
          <p:nvPr/>
        </p:nvSpPr>
        <p:spPr>
          <a:xfrm>
            <a:off x="4648320" y="380880"/>
            <a:ext cx="3962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作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648320" y="1568520"/>
            <a:ext cx="396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发挥你的想象，以本文的暗线“吴用智取生辰纲”为根据，编写一个小故事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619280" y="2924280"/>
            <a:ext cx="75247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33ff"/>
                </a:solidFill>
                <a:latin typeface="Arial"/>
              </a:rPr>
              <a:t>完成《</a:t>
            </a:r>
            <a:r>
              <a:rPr b="0" lang="zh-CN" sz="5400" spc="-1" strike="noStrike">
                <a:solidFill>
                  <a:srgbClr val="e40000"/>
                </a:solidFill>
                <a:latin typeface="Arial"/>
              </a:rPr>
              <a:t>智取生辰纲</a:t>
            </a:r>
            <a:r>
              <a:rPr b="0" lang="zh-CN" sz="7200" spc="-1" strike="noStrike">
                <a:solidFill>
                  <a:srgbClr val="3333ff"/>
                </a:solidFill>
                <a:latin typeface="Arial"/>
              </a:rPr>
              <a:t>》</a:t>
            </a:r>
            <a:br>
              <a:rPr sz="7200"/>
            </a:br>
            <a:r>
              <a:rPr b="0" lang="zh-CN" sz="7200" spc="-1" strike="noStrike">
                <a:solidFill>
                  <a:srgbClr val="3333ff"/>
                </a:solidFill>
                <a:latin typeface="Arial"/>
              </a:rPr>
              <a:t>研讨与练习</a:t>
            </a:r>
            <a:endParaRPr b="0" lang="en-US" sz="7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39640" y="836640"/>
            <a:ext cx="689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Arial"/>
              </a:rPr>
              <a:t>请翻到课本</a:t>
            </a:r>
            <a:r>
              <a:rPr b="0" lang="zh-CN" sz="7200" spc="-1" strike="noStrike">
                <a:solidFill>
                  <a:srgbClr val="ff3300"/>
                </a:solidFill>
                <a:latin typeface="Arial"/>
              </a:rPr>
              <a:t>P149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22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一、从课文中找出描写杨志言行的语句，并据此分析一下杨志的性格特征。课外阅读《水浒》中有关杨志的其他章节，进一步谈谈你对这个人物的看法 。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468360" y="2205000"/>
            <a:ext cx="842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《水浒》中比较集中写杨志的章节分别是：第十一回“梁山泊林冲落草汴京城杨志卖刀”、第十二回“青面兽北京斗武急先锋东郭争功”、第十五回“杨志押送金银担吴用智取生辰纲”、第十六回“花和尚单打二龙山青面兽双夺宝珠寺”。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杨志的性格特征：精明能干、粗暴蛮横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476360" y="3213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416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二、这篇课文用的是元、明间的白话，还夹杂着一些方言，其中有的词语，字面上跟现代汉语完全一样，但意思却不同。如“计较”等。试从课文中把这类词语找出来，同现代汉语加以对照辨析。</a:t>
            </a:r>
            <a:r>
              <a:rPr b="0" lang="zh-CN" sz="40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1455840" y="1417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879480" y="4010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0" y="213372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取：古：赶。今：拿走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值得：古：有必要。今：作某事有意义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强人：古：强盗。今：能独当一面，坚忍不拔，有所作为的人。去处：古：地方。今：去的地方，也有地方的意思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影：古：遮蔽，躲藏。今：影子，名词。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理会：古：懂，知道。今：理睬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还：古：付给。今：借了钱归还别人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胡乱：古：索性，干脆。今：任意；随便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-252360" y="0"/>
            <a:ext cx="93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三、这篇课文是从杨志等人的角度来叙述故事的，课文标题却是“智取生辰纲”，试从晁盖等人的视角来改写这个故事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258920" y="184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87480" y="2349360"/>
            <a:ext cx="9056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打听到杨志会帮梁中书送生辰纲之后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我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吴用，公孙胜，刘唐，三阮和白胜动了心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在一起商议对策。我们最终认为送生辰纲是夏日炎炎的时候，比较容易成功。又接着分析了所经路线的地形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9464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决定在黄泥岗动手取生辰纲．这一天，烈日当空，我们一行推了七辆江州车，上面堆满了枣子，赶往松林，然后让一个人在外面放哨，我们其他人埋伏在树林里，等待着杨志等人的到来．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我们装扮成商人，听到有了动静，便一起出去瞧瞧．在交谈间，晁盖，吴用发现他们的行为语言等不象市井小民，认为他们送的正是生辰纲．依计行事，利用他们之间的矛盾放入了蒙汗药．他们进入了我们设下的陷阱之后，我们带走了生辰纲，而他们只能眼睁睁的看着我们高高兴兴的下山</a:t>
            </a:r>
            <a:br>
              <a:rPr sz="4000"/>
            </a:b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10080" cy="394020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 txBox="1"/>
          <p:nvPr/>
        </p:nvSpPr>
        <p:spPr>
          <a:xfrm>
            <a:off x="152280" y="5562720"/>
            <a:ext cx="38862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华文琥珀"/>
              </a:rPr>
              <a:t>水浒人物：托塔天王晁盖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华文琥珀"/>
              <a:ea typeface="华文琥珀"/>
            </a:endParaRPr>
          </a:p>
        </p:txBody>
      </p:sp>
      <p:sp>
        <p:nvSpPr>
          <p:cNvPr id="518" name=""/>
          <p:cNvSpPr/>
          <p:nvPr/>
        </p:nvSpPr>
        <p:spPr>
          <a:xfrm>
            <a:off x="5562720" y="304920"/>
            <a:ext cx="3276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托塔天王 晁 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郓城县东溪村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东溪村保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本乡富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称托塔天王。七星入伙智取生辰纲后投梁山入伙。林冲火并白衣秀士王伦后为梁山寨主。后打曾头市中毒箭身亡。第十四回出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00440" cy="571500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3657600" y="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吴用，表字学究，道号加亮先生。平生机巧聪明，曾读万卷经书。使两条铜链。吴用为晁盖献计，智取生辰纲，用药酒麻倒了青面兽杨志，夺了北京大名府梁中书送给蔡太师庆贺生辰的十万贯金银珠宝。宋江在浔阳楼念反诗被捉，和戴宗一起被押赴刑场，快行斩时，吴用用计劫了法场，救了宋江、戴宗。宋江二打祝家庄失败；第三次攻打祝家庄时，吴用利用双掌连环计攻克祝家庄。吴用在破连环马时，派时迁偷甲骗徐宁上了梁山。宋江闹华州时，吴用又出计借用宿太尉金铃吊挂，救出了九纹龙史进、花和尚鲁智深。一生屡出奇谋，屡建战功。受招安被封为武胜军承宣使。宋江、李逵被害后，吴用与花荣一同在宋江坟前上吊自杀，与宋江葬在一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5791320"/>
            <a:ext cx="350532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66cc"/>
                </a:solidFill>
                <a:uFillTx/>
                <a:latin typeface="华文行楷"/>
                <a:ea typeface="华文行楷"/>
                <a:hlinkClick r:id="rId2"/>
              </a:rPr>
              <a:t>智多星吴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3200400" y="3808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公孙胜，河北蓟州人。梁山人马攻打高唐州时，高廉手下有三百飞天神兵，高廉会用妖法，使宋江折兵损将。吴用让宋江请公孙胜来破高廉。公孙胜是罗真人的大徒弟，名叫清道人。与高廉斗法，大获全胜。高廉驾起一片黑云想逃走，被公孙胜用法术从云中打落后杀死。宋江率梁山好汉闹华州后回到梁山，路过徐州沛县芒砀山，被能呼风唤雨的混世魔王樊瑞、八臂哪吒项充、飞天大圣李衮拦阻。公孙胜见芒砀山内尽是青色灯笼，就知道有会用妖法的人在内。公孙胜献计用法术破了三人，劝他们归顺梁山，建立奇功伟业。在梁山泊英雄排名次时排行第四，封为掌管机密副军师。宋江受招安后公孙胜回蓟州出家。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3206880" cy="495288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0" y="5410080"/>
            <a:ext cx="3276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66cc"/>
                </a:solidFill>
                <a:uFillTx/>
                <a:latin typeface="Times New Roman"/>
                <a:ea typeface="华文行楷"/>
                <a:hlinkClick r:id="rId2"/>
              </a:rPr>
              <a:t>入云龙公孙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8T13:51:45Z</dcterms:created>
  <dc:creator/>
  <dc:description/>
  <cp:keywords/>
  <dc:language>en-US</dc:language>
  <cp:lastModifiedBy>zmj</cp:lastModifiedBy>
  <dcterms:modified xsi:type="dcterms:W3CDTF">2012-09-18T04:50:44Z</dcterms:modified>
  <cp:revision>250</cp:revision>
  <dc:subject/>
  <dc:title/>
</cp:coreProperties>
</file>